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AC4-2B1E-4407-8CB1-89FFACBB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9F4-C942-47C3-BAAE-143744A1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690-E1F3-4681-812D-C38077F1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980-0C86-491F-AE59-1B650D26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6AA-FF11-4BE5-97B3-F79C244D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386-2794-408C-978B-7401AC16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33B-13F6-4017-97A4-8BFC4927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EE9-3651-4F90-9C87-055A6D06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29FD-04CB-494A-A05B-FDBAC6DE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073-2516-4710-8F99-A5DEB3D9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9E3-5BE4-46B7-9CB1-05F027FD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29F-045E-44CC-802D-80B136D4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268C-6A28-404F-9443-344F8E0133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Marker Board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You should have a marker board, a marker, and a paper towel to erase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Ready??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GO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11de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#5 - A 250.0 mL oxygen sample is measured at 25.0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 and 720.0 mm Hg.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ow many moles is this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0.00968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moles O</a:t>
            </a:r>
            <a:r>
              <a:rPr b="0" lang="en-US" sz="8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f42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09680" y="30456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#6 – 560.0 mL of nitrogen are measured at 28.0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 and 1.50 atm.  Calculate the volume under STP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19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8132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762 m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948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#7 - Determine how many liters 8.80 g carbon dioxide gas would occupy at STP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9680" y="68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6560" y="228600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4.48 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05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85840" y="39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 - A balloon is filled with 3 gases:  nitrogen, oxygen, and hydrogen.  The total pressure of the gases is 8.51 atm.  If the partial pressure of nitrogen is 3.84 atm, and the partial pressure of oxygen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20 atm, calculate the partial pressure of hydrog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00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nsw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2440" y="2028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artial pressure of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ydrogen = 2.47 atm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9960" y="28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#2 - A sample of gas is 7.89 L at 293 K. 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How many degrees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must the temperature decrease to change the volume to 6.00 L?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70 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t will change from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93 K to 223 K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ich is a difference of 70 K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7840" y="276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#3 - A piston filled with oxygen gas has a pressure of 240.0 mm Hg at 225 mL.  If the pressure is decreased to 0.150 atm, what will be the new volume of the ga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612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Answer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474 m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Don’t forget to change P1 to atm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3200" y="304920"/>
            <a:ext cx="850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4 - A sample of gas at 150.0 K has a pressure of 900.0 mm Hg.  It is cooled until the pressure reads 700.0 mm Hg.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is the new temperature in both Kelvin and degrees Celsiu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nsw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116.7 K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nd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156.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MO043</cp:lastModifiedBy>
  <dcterms:modified xsi:type="dcterms:W3CDTF">2011-02-17T21:23:23Z</dcterms:modified>
  <cp:revision>165</cp:revision>
  <dc:subject/>
  <dc:title>Slide 1</dc:title>
</cp:coreProperties>
</file>